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505-6F48-4AFD-8AB9-0D7C8F63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B8A-1F5D-4913-BBB8-CEA8479C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F55-2BCA-4D5C-B19C-B84D50FF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0F4-31C5-42DD-8E9D-7BD0DFB1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3ED1-63B5-4A53-86A5-034D5B3D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0E36-DC45-4341-A762-01E8C158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EAC1-5AF8-4A3A-A355-D8356EA0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CF32-D71B-4981-99E4-A9BB4ECA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1154-9A46-4EF7-B3F3-62949A26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43FC-DAC7-47DE-97A5-E729CA27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AF59-FD59-4424-BE33-08C7A64F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91B-2147-413E-AA91-55A9ECF8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4087-B71A-4808-8D36-FBA2737D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B0A1-17CE-4619-9140-03CE989D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DB0A-D255-4018-994F-13D5369A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C0EC-CA93-4776-A939-4EAC447F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D038-5359-483F-8EEA-7C197704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165FE-B6E8-4BA9-AD61-D6402B846C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CE097-0E6F-470D-801B-2E63F45939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1191B-0440-4444-89DB-CD7A9CF1B1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DBCF9-DC16-4DC4-BAA0-64C205B3A4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E41E1-6E36-4F78-AD53-FC2E939014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55F-B0BB-41BA-A686-069BDDF0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55534-9BA4-4EA4-86C6-8486B10F77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53440-12AC-4A39-83CD-80662307F1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6825C-5D83-4DD1-9E11-D1D6F3907D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270FA-A95D-4D95-99F2-17FA21DD91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D2AF2-D05E-483E-8A1B-01E8C9CB68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5208A-A0DC-47AE-89C4-7265D4B153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A3A2B-297F-4A5F-B81D-3EF2BB134E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3DED67-ED86-4D5F-A99E-7B885E7DDD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EF7D3C-EBDB-46B5-831F-74BE5EF366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4D07B-6617-435F-A2FD-10183D381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B4B-EA12-4A85-946F-141185C4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CC40A-31F4-45E8-95F9-258ED161B4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6F846-74D3-4FA7-8F2B-80EF778C6A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F7D324-DED5-4EFC-A1CB-4325258D6E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B1923-1B2D-4512-90FC-2EF7E7B079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839020-95B5-45EE-BB34-A7EB015E46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0F424-2CC9-4E4A-8501-913F956021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4C00F-FED9-42F3-93D3-E335FCB686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44367A-1791-46F8-856B-0AD9F57ABF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A4C29-348E-4477-A64B-90FA95F9C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FAF-42F5-44D8-A705-BEA82C62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40A-9559-4305-8FEB-6A7DAA2C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9A2-696D-4D19-A97C-779EE4D9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0C2-092A-4BD5-8D8A-B4F43253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796-C668-4117-8449-A927A518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7E29-A299-4565-B366-52F6DF007C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DD05-E113-43C8-92EB-3968E4816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125E-9B8C-4211-9A04-8E0E177CACD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1FF5-D553-4B47-9D1A-718680EDE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29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30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2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4467-CC14-4DD6-B77C-ACDCA6827F7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3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94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1B3C-484F-43BB-9B4B-E366355AE81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dc.gov/hiv/treatment.htm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journals.lww.com/aidsonline/Fulltext/2004/03260/Use_of_postexposure_prophylaxis_against_HIV.10.aspx" TargetMode="External"/><Relationship Id="rId2" Type="http://schemas.openxmlformats.org/officeDocument/2006/relationships/hyperlink" Target="http://journals.lww.com/aidsonline/Fulltext/2004/03260/Use_of_postexposure_prophylaxis_against_HIV.10.aspx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, the needlestick and Yo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al exposure to HIV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March 25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68588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trospective analysi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s Ratio of acquiring HI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eep injury (I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1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isible blood on the sha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6.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ource with preterminal A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arp was in source artery/v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all transmission rat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% percutaneous expo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confidence interval {CI}=0.2%-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.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bloody splash to mucous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CI=0.006%-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lt;&lt;0.1% blood splash to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ocumented cases of transmission to HCWs from skin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ther body fluids besides blood with potential transmission risk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Visibly blo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Semen, vaginal secretions, CSF, synovial fluid, pleural fluid, peritoneal fluid, pericardial fluid, amniotic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No documented cases of transmission of any of these flui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exposures not to treat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Feces, nasal secretions, saliva, sputum, sweat, tears, urine, and vomit are not considered potentially infectious unless they are visibly blo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Source patient known HIV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31f20"/>
                </a:solidFill>
                <a:uFillTx/>
                <a:latin typeface="AGaramond-Regular"/>
              </a:rPr>
              <a:t>Consider</a:t>
            </a: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 treatment if source unknown or source HIV status unknown </a:t>
            </a:r>
            <a:r>
              <a:rPr b="0" lang="en-US" sz="3200" spc="-1" strike="noStrike" u="sng">
                <a:solidFill>
                  <a:srgbClr val="231f20"/>
                </a:solidFill>
                <a:uFillTx/>
                <a:latin typeface="AGaramond-Regular"/>
              </a:rPr>
              <a:t>only</a:t>
            </a: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 if risk factors make source likely to have 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isk of transmission of other ag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utaneous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 B: 2-4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 C: 1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mediate Postexposure wound car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 with soap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tiseptics no proven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 eyes with sterile saline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ean water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038480" y="3581280"/>
            <a:ext cx="2283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texposure HIV Chemo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andard of Care since 199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262728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?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’s the evidenc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4008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iologically plausibl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IV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ginal inocul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24 hrs: virus limited to dendritic cells in mucosa with no evidence of active repl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24-48 hrs: virus found in lymph nodes, replica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5 days: free virus detected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or aborted infe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cell mediated immune responses to viral antigens detectable in humans with high risk exposures who did n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infec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Understand that PEP, while unproven, is likely to be of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Know the protocol for dealing with occupational expo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T effective in tissue culture models, SIV monkey model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 human trials - the perinatal transmission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G 076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ZT reduced perinatal transmission 67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reatment benefit not solely explained by reduction in maternal viral t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d benefit of initiating infant AZT up to 72 hours after birth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f mom did not receive antivirals, still &gt;50% reduction in transmission if AZT started in infant 0-72 hrs after bir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erinatal Transmission rate directly related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to use of maternal 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Picture Placeholder 1" descr="Fig. 1"/>
          <p:cNvPicPr/>
          <p:nvPr/>
        </p:nvPicPr>
        <p:blipFill>
          <a:blip r:embed="rId1"/>
          <a:stretch/>
        </p:blipFill>
        <p:spPr>
          <a:xfrm>
            <a:off x="1106640" y="990720"/>
            <a:ext cx="8037360" cy="46479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2590920"/>
            <a:ext cx="74674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. 1. Trends in mother-to-infant transmission rate and maternal antiretroviral therapy: 1990-1999+ (Women and Infants Transmission Study Group). Rates per 100 (95% confidence interval)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JAIDS Journal of Acquired Immune Deficiency Syndromes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0F93-9B9C-4E0C-9D28-5342D8BAB7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DC case-control study of occupational HIV expo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receiving AZT 81% less likely (odds ratio = 0.19) to acquire infection, controlled for other variabl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CRMC guidelines mirror Current CDC guidelin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MdBT,Bold"/>
              </a:rPr>
              <a:t>U.S. Public Health Service Guidelines for the Management of Occupational Exposures to HIV and Recommendations for Postexposure Prophyl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-ThirtyThreeBC"/>
              </a:rPr>
              <a:t>Department of Health and Huma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-ThirtyThreeBC"/>
              </a:rPr>
              <a:t>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cdc.gov/hiv/treatmen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updated September 30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treatment ASAP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ake the first dos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about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2705040" y="2743200"/>
            <a:ext cx="5810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treatment ASAP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w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hours to p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do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upload.wikimedia.org/wikipedia/commons/3/31/Man_sitting_under_beach_umbrella.JPG"/>
          <p:cNvPicPr/>
          <p:nvPr/>
        </p:nvPicPr>
        <p:blipFill>
          <a:blip r:embed="rId1"/>
          <a:stretch/>
        </p:blipFill>
        <p:spPr>
          <a:xfrm>
            <a:off x="5533920" y="1380960"/>
            <a:ext cx="36100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eatment initiation after 72 hour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recommended in high risk exposur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e 2 dru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imen:</a:t>
            </a:r>
            <a:br>
              <a:rPr sz="2800"/>
            </a:br>
            <a:r>
              <a:rPr b="1" lang="en-US" sz="2800" spc="-1" strike="noStrike">
                <a:solidFill>
                  <a:srgbClr val="231f20"/>
                </a:solidFill>
                <a:latin typeface="AGaramond-Bold"/>
              </a:rPr>
              <a:t>Truvada (tenofovir + emtricitabine) 1 tab q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regim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vir (Zidovudine/Lamivudin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tab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Zidovudine (Retrovir; AZT) 300mg BID+ emtrictabine (Emtriva; FTC) 200mg q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Garamond-Bold"/>
              </a:rPr>
              <a:t>Tenofovir (Viread; TDF) 300mg qday + lamivudine (Epivir; 3TC) 300mg q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2895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Swallow first, ask questions la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oses of antivirals are available at all our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Know protocols for non-occupational P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28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better toler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73% completed 4 week course of Truv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vs. 42% with Comb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 of Truvada with P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Diarrhea 3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Bloating, stomach pain 4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Few discontinuations due to sid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 of Combivir with P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Nausea/vomiting &gt;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Many discontinuations due to sid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(Study done with sexual PEP pts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tion: Truvada contraindicated in individuals with inpaired renal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istant Viru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lternate regimens if source patient likely to harbor resistant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medication history: do they have a high viral load (over 1000) despite being on m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patient had an HIV genotyp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istant Viru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newly diagnosed HIV+ are infected with a resistant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ly 3.6% have resistance to “nuke”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s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rial"/>
              </a:rPr>
              <a:t>In more severe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For example, large-bore hollow needle, deep puncture, visible blood on device, or needle used in patient’s artery or v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igh risk source pat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Symptomatic HIV infection, AIDS, acute seroconversion, or known high vir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s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rial"/>
              </a:rPr>
              <a:t>For mucous membrane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vere expo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gh risk sour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Garamond-Bold"/>
              </a:rPr>
              <a:t>Basic regimen pl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Lopinavir/ritonavir (Kaletra; LPV/RTV) 200/50 2 tabs 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AGaramond-Bold"/>
              </a:rPr>
              <a:t>ANTIRETROVIRAL AGENTS GENERALLY NOT RECOMMENDED FOR USE AS P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Garamond-Bold"/>
              </a:rPr>
              <a:t>Nevirapine (Viramune; N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ssociated with severe hepatotoxicity (including at least one case of liver failure requiring liver transplantation in an exposed person taking P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ssociated with rash (early onset) that can be severe</a:t>
            </a:r>
            <a:br>
              <a:rPr sz="2000"/>
            </a:b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nd progress to Stevens-Johnson sy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-Bold"/>
              </a:rPr>
              <a:t>Efavirenz (Sustiva, EF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aramond-Regular"/>
              </a:rPr>
              <a:t>Contraindicated in women who might be pregnant due to risk of birth 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eat X 4 wee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3048120" y="2400480"/>
            <a:ext cx="4800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05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340668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53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531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aging the Exposed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fill out red needlestick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ention source patient’s name or medical record number in patient’s paper chart or di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record the source patient’s name and MR# on the needlestick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leave Cathy Ferris a voice mail (370-5079) with source patient’s name and MR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b tests -Baseline for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cument prior non-infected status to support/refute worker’s comp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BSab, Hep C ab, LFTs, Urgent 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entry under lab order “B/BF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tests if initiating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G, CBC/d, UA, AST, alk phos, CK, t.bili, 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b tests - on source pat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HIV, HepBSag, HepC Ab, VD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entry under lab order “B/BF S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pdate immunization status of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 B vaccine, H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anus (give Tdap while you are at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llow up lab monitoring on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CBC, LFTs after 2weeks on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glucose if on 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fe Se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l 3 month testing result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43434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P is not Perfect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EP failures well documented since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hollow needles, 1/6 unknown sh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source patients had AIDS, 1/6 had asymptomatic HIV infection but not on m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took 2 drug (2) 3 drug (3) or 4 drug (1) regimens, all initiated in&lt;2hours after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eveloped symptoms of acute HIV within 7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ad documented seroconversion within 10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 antibody testing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aseline, 6 weeks, 3 months,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eroconvert within 6-1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does not delay sero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 viral lo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f symptoms suggestive of acute HIV syndrome (fever, rash, lymphadenopathy, pharyngitis, myalgia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Study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2AM.  Your sewing up a 2nd degree lac on a primiparous HIV positive mom who just delivered a healthy baby b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c is deep into the vagina, and it is hard to see where to place your stitches due to bleeding from the lace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atient's attention is devoted to the infant, whom she is trying to take a picture of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de effects of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% HCW had 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 (2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 sl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igue (2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(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upset (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s with 3 drug regi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cdotally are higher than in patients taking same meds for established HIV inf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619600" y="457200"/>
            <a:ext cx="35244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liance with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with Occupational PEP is po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ource patient known HIV positiv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% employees initiate P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ose starting m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% fail to complete 4 weeks of m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% failed to complete due to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rug regimens had lower completion r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P line 1-888-HIV-4911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y Ferris, 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 control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0-5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per 26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#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 y.o. woman presents to the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states she had intercourse 7 days ago with her boyfriend and the condom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does not know her boyfriend’s HIV status, nor he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sks about medication to prevent HIV from this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offer 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xual and other Non-occupational Post-Exposure Prophylax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of one episode of receptive vaginal intercourse is 0.1%, similar to needle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higher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ve anal inter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e and traumatic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partner with genital lesions/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7162920" cy="50655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60020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ctiousness is directly related to vir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m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night 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 (S-PE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of S-PEP biologically plau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often present later in time than occupational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nclear who source patient is or their risk factors, HIV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risk reduction counseling for future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risk reduction counseling for future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taking S-PEP reduced instances of unprotected sex by 80% during month of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atients reported being high on alcohol or drugs or both when had unprotected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place your first stitch, your patient yells "ouch" and jum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feel a pinprick and inspect your nondominant ha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ee blood under the glove of your index fing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4343400" y="3886200"/>
            <a:ext cx="2438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Use of postexposure prophylaxis against HIV infection following sexual exposure does not lead to increases in high-risk behavio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Picture Placeholder 1" descr="Fig. 1"/>
          <p:cNvPicPr/>
          <p:nvPr/>
        </p:nvPicPr>
        <p:blipFill>
          <a:blip r:embed="rId3"/>
          <a:stretch/>
        </p:blipFill>
        <p:spPr>
          <a:xfrm>
            <a:off x="2133720" y="1523880"/>
            <a:ext cx="5715000" cy="4324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98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AIDS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D700-050A-41B8-A227-49D742362E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 – Recommendation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28-day course of HAART is recommended for persons who have had nonoccupational exposure to blood, genital secretions, or other potentially infected body fluids of a persons known to be HIV infected when that exposure represent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ant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sk for HIV transmission and when the person seeks care within 72 hours of expos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3" name="Object 0"/>
          <p:cNvGraphicFramePr/>
          <p:nvPr/>
        </p:nvGraphicFramePr>
        <p:xfrm>
          <a:off x="-380880" y="-41400"/>
          <a:ext cx="9524880" cy="7143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41400"/>
                    <a:ext cx="9524880" cy="71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s recommended in S-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ikelihood patient may already be HIV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y in presenting to care after exposure increases risk of PEP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mi-related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iss a lot of opportunities to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Urban ER study on offering routine testing to all patients seen in 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 of patients accep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% of all patients were HIV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% of these ha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6% of patients with risk behaviors had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ha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% of those testing positive entered HIV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1 - Don't Panic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3949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2 - Get someone else to take care of the pati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3 - Clean the woun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2283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4 - Go to ER or Charge nurse of site to get care per protocol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3738600" y="2176560"/>
            <a:ext cx="25066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ven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iversal precau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2727360" y="1981080"/>
            <a:ext cx="466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o you do now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http://www.ibiblio.org/wm/paint/auth/munch/munch.scream.jpg"/>
          <p:cNvPicPr/>
          <p:nvPr/>
        </p:nvPicPr>
        <p:blipFill>
          <a:blip r:embed="rId1"/>
          <a:stretch/>
        </p:blipFill>
        <p:spPr>
          <a:xfrm>
            <a:off x="3200400" y="914400"/>
            <a:ext cx="4417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o you do now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053"/>
          <p:cNvSpPr/>
          <p:nvPr/>
        </p:nvSpPr>
        <p:spPr>
          <a:xfrm>
            <a:off x="1676520" y="1905120"/>
            <a:ext cx="7010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p off your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caring for the patient and try to forget about the whol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omeone else to take care of the patient, wash the wound, and go to the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ccupational infection of health care workers with HI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December, 2006, i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 documented cases HCW-associated HIV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were percutaneous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were hollow bore nee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ucous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unknow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,000 est. needlesticks/year in US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2:59:44Z</dcterms:created>
  <dc:creator>Joseph Barger</dc:creator>
  <dc:description/>
  <dc:language>en-US</dc:language>
  <cp:lastModifiedBy>cfarnita</cp:lastModifiedBy>
  <cp:lastPrinted>2002-12-05T20:33:39Z</cp:lastPrinted>
  <dcterms:modified xsi:type="dcterms:W3CDTF">2010-03-22T23:29:25Z</dcterms:modified>
  <cp:revision>24</cp:revision>
  <dc:subject/>
  <dc:title>HIV, the needle and You</dc:title>
</cp:coreProperties>
</file>